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507-B42F-4562-928C-3F13D498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11D-74C2-4440-9D9A-3CECC380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C28-790A-465C-B376-110F9C43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592-2DC6-4EFA-87BB-7D97FD9F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970-014E-495C-9B69-1994F87C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A7FF-C32D-4C77-9473-4E66F2D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F45-87FF-4918-9D97-BEE0545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AB01-5527-4C5B-9A10-007FCFD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55E-08A4-40B5-BFA4-C15C266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0016-FB5A-4A90-A979-2D2A8A39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068-2C4C-44D7-A574-0B6E6FB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FBB-E8C9-4D95-95D2-311A4F53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968-96D9-45D8-BDF3-629B6B4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FF6-13E4-4393-AA64-418515E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3F5C-2D1F-44D9-A78E-36028CD0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EA1-34BF-4F15-B08D-BB0BBEA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7956-45A1-4FEA-AABA-1A077F43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2E49-EC14-49FF-8BD1-54492835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DF95-28C9-40B3-85BB-46DFBFF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8141-BD96-4D0D-B8C5-8BA04E4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43F3-2A78-40B2-939C-5E577362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28E4-A67E-4754-8340-1D60B1D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531-BC37-4E58-BEAC-FB10DEC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4C7A-A599-4605-889A-C33206E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341E-7C6A-4BD4-B335-8A98E13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9911-7831-4EC9-AC75-2C9E4D5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BAF0-AA3F-4628-90C5-79FC8F7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2B38-7F70-426A-839A-5395667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7AE6-9876-4BCD-8A48-E7916E58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5C13-2D6B-4225-B837-E5E29F4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071F-7A4D-406C-A0BD-1321D8D8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7A40-5C5F-4F50-BAD6-1034DF4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8D3B-0FD6-45B9-85E0-A48B5713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15D-A639-498F-8321-F15A79A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A0D2-80B0-41A9-9AB9-E481BDC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BC66C-EBAA-4F00-8E9D-87F48CE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E986-CDFB-4AD5-AFE1-57F7520F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6DEC-DCE9-4D4D-A1AA-5DE8B5F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64AE-2F28-45CD-8CDA-042B43C5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9E9A-A706-4FCD-A606-3C23C6F6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E414-E7A5-4C9E-9928-192E6A8A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0C7FF-5895-4D0B-AC55-E4F2879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273CF-61C6-4356-B9ED-0B313C4E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55793-B1EA-45A9-AEB4-10D7F5DD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394-D57D-47D2-8486-4EAC7339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3E10-8DF2-4E19-A32D-6A8230B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82BB-6448-475E-8274-446454DC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5F1A-438F-4389-888A-B34A498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A3E9-9DB1-436F-8C82-93A977E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2DA8-73D4-4367-88DE-1BD145F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B9DE-D089-4268-9A85-F503B2E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EAC0-20EE-4F09-ADD3-B69B11CD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9A38-9BDF-466C-A82A-69AB086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ECDA-383A-4A1E-87DF-E7CC4793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C92F-875D-49D0-B48C-C4929F76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27D-273B-48D9-8DEA-96E8558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A355-EB39-4465-ACC2-053F1BB6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83B1-C6BF-4149-A35D-1D7494AB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75FF-C2E9-4228-9F3B-51114560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2F5E-09FF-4062-95B8-BDD267B9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40CA-5020-479F-A0CA-C2A9108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236D3-EA9F-44AC-B778-1D07FE2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E50C-2F49-4022-8FC6-04E7563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E0BD-8284-498F-BBC0-B67237C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68479-A4C3-4DB6-BD51-95B6C08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E0164-F27C-4E8A-A1A9-76BD4C7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359-7C78-48EF-A3EA-2731A95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317D-2B4C-4902-B5C3-D63C4F1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585D-F8A7-4EF8-84BE-2BF94B65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4DA4-B981-4936-BAEA-7EB73877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7B72-611F-4E64-B925-98808038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8CA0-E121-4DE1-A25A-FBD8E73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96A3-D63F-4696-A51F-AB3E9F0B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38EA-3356-4A13-AEAF-CB791EF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43DC-5C9A-4506-A879-48261481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5B60A-F034-470A-9AD7-13712D9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9FBDB-4BF8-4D68-873D-2864824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A97-9478-4452-8A9F-F435A45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5EA7-0432-4BA9-B098-72D8FBF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162E-9815-4B9F-BB34-E896476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6648-7C13-4E21-A93F-CEEA65B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2818C-118A-4ABE-BDD9-E415EB24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DE80-5128-4312-B717-A09945B1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678-A0B3-4999-97FB-3F0F72D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645-9D56-48F4-9136-A754D370C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" action="ppaction://hlinkshowjump?jump=nextslide"/>
          </p:cNvPr>
          <p:cNvSpPr/>
          <p:nvPr/>
        </p:nvSpPr>
        <p:spPr>
          <a:xfrm>
            <a:off x="9144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0AC-92E7-4976-854F-3BBB6B4C6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25B-33AE-4294-9473-3B12351D0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9144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E5A3-D01E-4564-8470-A5279698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9A0-F6B8-4C4D-A175-741E2AB60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1CB-D404-46AB-982C-29A7493C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5AB6-20C2-41DB-B0EA-46628D325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THE SISTERS OF MARY SCHOOL-BOYSTOW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Mr. Joevanie B. Elio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VI-A Comprehensive, Room 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rte"/>
              </a:rPr>
              <a:t>October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5335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jects(2011-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Bradley Hand ITC"/>
                <a:hlinkClick r:id="rId1" action="ppaction://hlinksldjump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Bradley Hand ITC"/>
                <a:hlinkClick r:id="rId2" action="ppaction://hlinksldjump"/>
              </a:rPr>
              <a:t>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Filip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akaba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333520" cy="1143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2971800" y="22096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4495680" y="449568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762120" y="4343400"/>
            <a:ext cx="28954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480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rigon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w of s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w of c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dia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glish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362320" cy="4724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743200" cy="4800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2971800" cy="4800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al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clear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876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743200" cy="4800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ipin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ayu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aniti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ikling kw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b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 filibusterism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3667320" cy="2743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09960" cy="2038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557520" y="1523880"/>
            <a:ext cx="2028960" cy="4648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457200" y="3352680"/>
            <a:ext cx="2467080" cy="281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57200" y="1371600"/>
            <a:ext cx="311472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kabayan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ysic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ealth and Famil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8:05:00Z</dcterms:created>
  <dc:creator>DSME</dc:creator>
  <dc:description/>
  <dc:language>en-US</dc:language>
  <cp:lastModifiedBy>DSME</cp:lastModifiedBy>
  <dcterms:modified xsi:type="dcterms:W3CDTF">2011-07-29T09:49:37Z</dcterms:modified>
  <cp:revision>3</cp:revision>
  <dc:subject/>
  <dc:title>THE SISTERS OF MARY SCHOOL-BOYSTOWN</dc:title>
</cp:coreProperties>
</file>